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550-AD9C-46CB-A3F4-4C57AD8D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AC5-5591-486E-822A-6B65355B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D58-2EC0-4616-BB4B-1FF60607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8D8-8E78-4044-9177-F8B2EBB7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D90-B106-47B3-AEE2-89857AA9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F68-796A-4C36-8AE3-3BDBCF5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EF6C-337E-4F29-A69E-28EB728A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6877-FB63-4CCC-8F8A-1977347F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A62-F15D-4B70-93FE-1E75437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7B7-2A0C-44AC-8400-5DFA37F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B9ED-564E-45AF-8085-0CC3AB7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153-F2B1-4259-9CA9-3F30DB2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3614-D868-4724-9334-CBD09D6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90E1-3258-4C06-8F85-151C085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2DD-235E-468A-8887-66BFA27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BB3C-56A0-4A71-975E-9A3B7BEA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0A7-6CF0-4781-B142-98217FA9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25F-CBA6-4B47-A095-085E87A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D83-DE58-430D-9B2F-E8B1665C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D7C-5CF2-43BB-A843-5C257F1C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7AB-5702-4A38-BD25-5872AB4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D03-18F7-4005-891A-36DDC3F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0B5-C1EC-435D-A9C9-407C57C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D75-E3F4-4B74-B22D-646027C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8E4-1A70-47A7-B4F0-8D8CFF287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94A-C1B6-4C49-9C00-9653E2B4B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Wonderful Walrus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ndi M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59B-48C2-4270-AC42-AE9BEE658B78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nt the readers to be able to describe what the habitats, the main diet, and other informational f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, I would introduce the animal to the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, I would try to overview the entire vi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ould later go into detail about what I overview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tly, I would summarize my entire video, similar to what I did in the overvie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would make money by making my topic interesting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ovie will be different from other videos by going into detail with my animal’s habitat, diet, system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53:42Z</dcterms:created>
  <dc:creator/>
  <dc:description/>
  <dc:language>en-US</dc:language>
  <cp:lastModifiedBy>City School</cp:lastModifiedBy>
  <dcterms:modified xsi:type="dcterms:W3CDTF">2013-02-20T19:01:36Z</dcterms:modified>
  <cp:revision>38</cp:revision>
  <dc:subject/>
  <dc:title>The Pitch-Then-Plan Business Planning Template</dc:title>
</cp:coreProperties>
</file>